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279-0A3B-4E2B-A8F6-7F3529A4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D05-FFCA-4F83-A1B3-7ECCFC8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4963F-D051-455A-8981-10C21BC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7953C-5830-4E86-8D06-A8A475A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2960-9DC3-421D-85B5-BB372FD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B8D43-8E99-457F-9E67-2FE02A5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34D9-C286-469F-9965-5A66D1A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3F6D7-B886-451A-900B-D80DAFE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772FC-A555-45BF-AE06-75922DE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9107C-D1EE-47E9-99C0-85163C38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C9368-43CC-4F87-A289-E24F677E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C1F8-C44A-416B-9DA2-10BC45E3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85A-B33B-4410-8F12-7BA91F3A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369F6-861F-4627-BDD8-7619A4A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B3484-26F1-4233-A1B7-7CB1DC9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AE4E-CDC8-4DB7-A745-C09D005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03E07-8ACF-40E2-8711-BCBC7A4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962EC-A3FC-4BD9-A3E8-D0A7DF6B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5B830-532C-4560-8FB6-2FCA54D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CAA74-1A72-42AB-97C6-818D9D9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09CE-86F7-4F32-AE37-1F87858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E1A32-C0A2-4ECC-897D-E0B5E043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7F5D0-18E0-4D10-A107-7FC861CD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C06-0F0D-4E5B-B1D3-F9FDAFA8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47C02-B5D1-4690-AC61-70181CDF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13137-E338-4DBC-9FD5-BD67C8B9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5ACD-A6E2-4AA0-B841-08D26A6E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42CBC-BE62-496F-80DF-BA5DCBA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E8B6A-F368-4486-A196-BDC568F6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14219-2265-4BA8-AF05-B6392103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F3727-BD98-4B4F-9F8C-179B1A1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1C199-6BDD-4381-B5FB-D76B256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0B7CD-CAF6-4837-880A-EB0133A8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BF334-1152-4DCA-976D-04A323EC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8633-8487-4B79-BB86-4CD5B72D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9AB9-0145-4FEB-981B-EE5829C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9A5C-D0C1-444E-98AB-283A9830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6F92A-0858-4A09-86F3-13001EE4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4CDBB-F1FA-45FF-94FB-FE243A29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1622-86D5-452C-B98A-295E108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638D6-F206-404E-B9EB-FD4A547E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6E3C7-14AD-446A-844C-CC35F5F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3745D-664B-4D6B-95E1-4D2C957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3A1B2-3617-47DC-AE13-F9CDFBC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A3C3A-AEF6-45A5-BB9F-1A6EAA5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9E6E-DEBB-46CA-9023-EC9BAF2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7F22B-E8D9-4666-A80C-589A9E9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A4006-7FBF-476F-A5B5-3DD1E37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66BB5-C178-48CB-9EB5-03C3893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477AB-7AC7-47DD-93C5-3699521E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07F60-6366-4588-B3D7-2FA2F8C2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E350-5BE2-4147-9635-14ED26DD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E6791-9A41-4FAE-96ED-F9584A09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0DF7A-2F39-454B-B073-3AF4142E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82123-C034-48E7-8971-7EE44EC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8A73D-9844-4047-8D62-CB9207A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5D1-B88E-4689-8F11-6B04841D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BE1BF-6572-4D30-AED4-EB42B0DE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7FDE4-2404-4981-BF96-08213D5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3B786-33B8-4EBA-A8EE-20B7E96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85D6A-792D-437B-8BBC-8248BE2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8AC0A-FCC3-4F1F-BF6C-26EE4C3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E02B3-9982-4E4D-B288-C85A7FB6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D8E93-F55C-4782-A2DF-A8E3733A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3D0FD-F107-42B9-94B5-581ED21D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90969-805D-4E01-A9BA-D6B1FF71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3837C-D445-4EF2-9EE1-59F07EC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E439-F48A-4B73-A48B-2C33285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91108-990C-42C3-98A4-2FE3310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2D82E-8270-4015-9B23-E27B803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9CB3D-A006-4390-BF36-DE4638ED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41905-98E1-4A5D-A0B7-CCCC476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7567F-1A77-463F-9C46-6AC133F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CC426-6EE9-43EA-9070-9CC1B65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78CFA-7CF7-4581-8D1F-91453D82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183D9-2D90-4312-A4E1-51B6C1BA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DDF8E-43EF-4F6E-8A09-786AE496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95D4C-711D-491A-9F65-72815C4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3D9-77F8-4932-9D1E-1959DB87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A64A5-F0F0-44BE-9348-E30A62CE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B1417-EC12-427A-84D7-AE16150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F49E5-7D00-4003-8723-F7B5AD98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A29CA-82E7-4940-9623-E71C3431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85831-A073-4635-94DF-60FB87C3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87320-B8E6-4465-A719-91463F6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6108B-FB05-42EE-8EA6-0477DDF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05358-B055-47CB-9A51-5D308F1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5AE53-5818-44A6-8ED2-216FD3C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6D9C1-43F3-4FD7-89C7-5650A8BC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1E8-F5FE-452C-89A6-BC7425FF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F0628-245F-49D7-A499-0A79570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7FF47-DDCC-4E75-A092-F4B19697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C3BAB-0838-4A47-B170-4BDCE39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3DAC1-2D3C-420C-BED9-6FF81F6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7D987-A240-48DC-AA88-6741D9D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50677-1CED-4BBE-B0FE-7B37392A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F8EF3-5B68-41DA-924A-5C8DD56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64A53-D3DB-44D8-94FB-69DB0A8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2C71C-9FF1-4FC2-AC87-EC5948E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99F6D-0EEC-49F7-847B-F42548F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1B84-A7B8-43F8-A696-8D5CB3B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A4372-6EE9-493A-86D0-0177FC9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9D946-B4C2-4321-A5DD-FC3DD070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6EE4B-D036-4D2A-AE0C-5950F944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BD2EE-C003-42FC-8A81-D90667C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2E6C5-47D3-40F0-A2B8-DDA8C117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758D4-0234-44FA-9E67-3B774AE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3C4DB-A83E-4E3A-95A1-860ACD93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904DC-7628-4212-8C22-5EDD9E8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E6D02-CB14-4253-8401-C8B013C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44AF3-CC86-4B8A-954B-0DF1F7F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3CD-7774-449E-8E5F-97AE846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598-577D-46AA-B6CE-0358115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4B0F7-BD9F-46E3-BA51-9F94FFF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CAD6D-1427-4D88-B94D-A3C2807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C41CE-9AF9-483A-8C17-B9569D5F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80117-5C5E-48D0-B783-6EB74A25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B1FBD-7036-4298-B77B-EC762FFA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C99ED-F423-41F7-B07E-2FFAB982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4ED78-4A17-4356-ABF0-C6AB336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506E4-735B-435E-BBA0-C721F55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E05F4-CF47-4E06-86F5-594397E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6EFE4-2FE1-41BD-91B4-01787AC6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F18-5F31-4B8A-AD2C-89FC0AA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B9AA1-BAA0-4965-AA66-C64E110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D0A46-18DF-41E9-BE48-1980F4F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00300-F5E1-4227-B49D-38C5AE5D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817FF-85A1-4B84-9B90-0BC4582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AE865-4AC2-4C0D-9D39-0B7309D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A4A8E-4EF0-4FE7-B5B2-9425AE13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69A83-C56E-46C5-84A9-FC9ED8B1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EECF1-9F6A-43BB-9A89-D033EC59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32447-A168-49D0-9784-CD156A64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6513B-760B-49A9-B225-43570E3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CFCA-84AD-4801-9047-3313FD4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8B4E3-15F3-4E17-A0F7-23175D4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1763D-DCCA-4C0F-BC7D-501BF90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B6B6F-2CCE-4461-80CA-18A292E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83147-83B7-445C-9074-44FF668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58CE2-86C8-4AC2-88CC-E9363D8D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3C68B-2059-408F-9646-6E03DCD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6E79A-B580-4316-AD1B-9497C54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A3936-998F-4171-B0C4-15ED21E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1CDF7-0478-4461-9D82-846D923C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F1D09-1F36-487D-ACF6-73695D41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8A4-D562-4717-962C-F1E197BF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AB946-522E-4F7C-95F1-1BFA1312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7D1EB-B40A-4F4E-909B-D718661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3A6B6-1143-4B43-9817-727AB056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32141-7453-4A41-8FA2-5B5DF6F3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548D2-D731-49BD-833C-4E5DD2A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693B1-7AF6-4165-9401-820550E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26641-3CBF-41C6-98E2-6138C71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CFC6C-09BE-473A-9F7E-7232FD6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D19CE-20E9-4856-9472-1B2F22E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AD80A-841C-4C0A-A395-0827D45E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99DA-6C19-426D-8B66-614ADE5B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FDAB6-E3CF-4205-B4BE-8AA48DE9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1FDD8-6D4F-4172-8CF1-FE10B2C4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DCF54-E37E-4FF4-BC11-4204028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580E1-FC6E-4DF6-A237-93A5167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6D4BC-5B29-43AB-B0DE-7BB9935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6816A-9B9F-493C-BFE7-32F96B2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C5A33-386D-48D1-879A-C2FBD7C0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1F89D-6663-442E-ACFD-2BFA0D9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876DB-F7DB-477F-BC0B-F900EE8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C0651-DA77-4F82-9B8A-538BF5D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F2A5-FF6A-474A-83E0-FFFB05AA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BE84A-0C72-4C0C-AAC6-3CEB8EC3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08B17-20EA-45B3-B32C-15C727DB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65F940-6BEA-4CF2-8135-94A16F9B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56D34-ED0D-4D13-AA4E-3F7ED8A3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11A57-8854-4ECD-85DD-0818309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9F7EA-39AA-4830-8789-CF17C56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08D9A-BBCF-4B3C-8FFD-A0EBDFF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948059-8A35-422C-90FA-3813F6E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980123-2E8F-4422-A11E-57F3DF8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EE25A-46F5-42F0-9335-30B5DCA7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0952-6F4E-4CE4-AA48-0CAAE39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ED54FF-F554-41B5-B1B7-24325A5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5A758-B2A8-4917-B8DB-1A0C5CF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A319FD-70A3-4AA5-BA35-8BCAA0E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B9D34-9EDA-42E0-8BD6-D0C19B00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0A139-4AC0-4627-92EF-05232393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AE14C3-6825-482C-A328-7A60AB74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C47D2A-FB9C-453A-AFE5-46A950C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4041A-CB7B-49DC-84A3-C51AE57F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48494-2382-45F6-9F31-60E1DBA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1D00B-7801-423D-9355-727AF35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8381-15D5-4DC5-A174-A89B56DA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84672-D742-4188-844C-DCE79FE5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21F73-4C13-4177-BFEA-8314DE6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6114A-D61D-456D-89D2-856931D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11C9F6-4B25-445B-814E-5F9CAEA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76838D-5468-46E4-A4F2-618BB13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0BD3D-01C7-482C-B5E3-1B669FD8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3F5095-AD61-4CFD-9DE8-09C20EB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8CF880-73ED-444D-B811-8F299165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728817-FD0C-4D25-9A94-B3CE059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97E8A-BA56-4E9C-8E8C-A094644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3F23-D5BD-4504-B4BF-E14BE85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DEB33F-441E-411C-AFF6-337BA8C0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C3263A-12B7-4AF0-A56C-4B2175E4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19D0EA-F352-4287-A5A4-F103E72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EA5FEB-59E4-40CB-A112-94F5123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D5502-C3EA-4F4B-BA68-4FDE3C5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65705E-630A-4F0B-BEB0-DC1D34B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1407E-1071-46DE-9E37-DCE540F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BAEFDE-E126-4278-9FF8-F96E8BF1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94ADB-5353-4A29-B06D-36BAB312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2BA71C-D670-4A21-A442-896824B2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5552-BB58-4C21-8D1C-174667CA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C307CA-E9A1-4970-AB4C-37CB51C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C36EB6-16C9-4F61-A599-8B84AA5B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7D0E12-34D3-4632-9251-5DC60D4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1E85F-CA8B-4D7B-865B-8300E1D3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66F66D-211C-4939-819A-580F08C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B65B2F-046D-4D35-9EFB-F8CB493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422D45-EB3F-4614-B000-AE36102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C8ECBE-16E6-4340-8088-0435B05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0EE1A-FFDB-430C-AACE-5D2D0E0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3A5E80-0C83-463D-A4B4-4C136245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164-DFDA-4598-B861-BB3099D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2444-1EA0-45F1-8C7F-98C7B78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7B5EAD-1B0B-4AC0-9EBF-C6DDA468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403F6F-44FA-4F4A-B802-98C5D4B7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6A5E7F-9B67-414A-9B8F-FE335D9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50DE6D-9CFC-47A4-AEDE-FC596F2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0F3E0-8E5F-4A15-BD27-CBF63D64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BAF6AB-A362-4DD8-8A29-033CEA0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B7D469-BF97-4626-8FDD-D192F8D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CE7DFB-E192-4B32-B43E-BCEB82D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4E27D4-71BA-4187-A78D-563E60C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2C881-E845-42CC-8301-399634E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8517-BC05-45F4-8EE0-7A927D7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6BFBB-E7AE-4F74-80BD-76D5BEA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7EA885-68D4-4FF0-A2CA-6809280B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7D1453-D448-4A22-8FAD-D0F83539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47194A-F25F-466C-8976-FA1FB43E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1D2205-266C-4B6D-809F-AD29762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600330-77C8-46B0-AB02-219D6A27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14C35A-C617-4884-95D0-8C3DE65B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837FB5-0291-417A-9D2C-5DD44F3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644F5E-0F43-434C-B961-0270E42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D84782-46B2-4C3E-AE96-57126C4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F369-9862-471E-AE1B-959733EE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C9E8E3-8A5D-47F9-A7FD-D40B727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BA160F-DB8A-44AA-A0FF-F97171C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E533A8-1CE0-4548-A5E4-436CF31C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A88CDB-BB12-4808-AAAB-3224AC64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D7C7EA-1B17-498B-88F3-9593E2E4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F7C022-26AA-48C9-AD1E-43D16ED5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71E53E-8C54-45EB-BE22-034EDE3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32C427-B820-4752-BDDF-07670F7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B27BD-765C-489C-A740-CE3B5CDF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72B84-6113-4BA2-A9FD-F1333D3E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501D-0611-4F09-BB8F-AFE2327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6DF586-7727-43A5-82F9-5D74096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A9FF3D-1EDA-4C4C-A5A1-96DE2B4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AC8B22-BE32-4AC0-970F-EBAC6A0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840DA1-577C-4FB1-B004-47CF43E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C77425-3300-4B6B-8180-3D5C77DC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F59C42-35E8-4DBF-98B3-471CBA32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376B0B-6890-4029-9C18-9DA41807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1979B9-AD8B-4B2E-9D5A-B921FE1E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26EF51-B545-47A8-BA34-0C1BA9F2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CE288C-0BF9-4E2E-B672-F077CF4D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4EE4-A34E-485E-81BB-E963CAB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0E288A-8BC4-4251-B68B-6072AD6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29AD77-70FC-4B1A-BA99-3CC0E14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0CE75-2D5A-432F-9B80-F1328BF8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8BECC1-502E-488C-A573-BE7DDBA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CB93D8-3087-4DDF-A5EC-F2F377C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F354B3-45FC-40C1-9E73-817C9C28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2892FE-8179-4B90-8ED5-AB60030E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463738-9AC8-41D5-B948-9F0D44CB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2FDC3-2C42-4FEB-836F-F142897E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931A06-FB31-4B6D-BA68-B7F0D756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7963-3C24-433C-B60F-9FF8F511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1E978-5B4D-47D6-8CD4-39057F0D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DFDC93-1EAA-4DBE-8630-D1B9256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31FBA2-0D04-4C46-AB28-5D2D5C8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55D92E-5D23-479D-8535-1FEA992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1F42B2-C94E-419A-90C3-89B1711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DFA021-EAE1-4FB0-836C-707A528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72B366-2C40-4D39-8DA1-63F7C07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176718-69E2-46D7-BA37-4918F0F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B0ACE7-A6ED-4998-A637-7623286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8B2F25-FA3E-4909-A498-72EAF929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C477-66B3-45B6-9732-27B1C804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05CF2A-B245-4EB3-B694-41FE17E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56090E-6A1D-4316-A052-D0B39569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A7772E-8838-4400-826A-25CF79BC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7A24DA-8807-432C-8A4A-07043FDD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FA9393-AC2C-4045-AC00-482E054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C58E24-0B3A-4D69-B75C-4733ADE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F8CB94-F1C2-4EE7-8D79-FA2792C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548F58-7BD4-48FC-BCE5-17E5C81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7EE5F5-7729-4D9D-BFE0-B8A1126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EE18A-F9A5-45DE-ACAD-CC973627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F158-3D3E-45AD-A4CB-85C8574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CB766F-D2FA-4E4D-B9DD-1682C6DF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7C41DE-8BFD-4A69-B93E-B58D75C1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4E053F-B955-4FA7-98E3-61AFFF7A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ACE8-773E-44AD-B499-35E47FAE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CC43-BB2E-42E4-83A8-439D7FD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CA3-126B-4258-B9B9-E0C1B73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EEBB-D05A-44FC-94F1-305A6E2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A3261-9709-4ADD-9AE5-DCB0A46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F085-5F0A-42EA-8D1A-BB3424C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C1BB-37B3-4868-8629-DE8CC84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88A5-BB15-47EA-A0E9-E81BF50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50EB-7F0F-4FCD-9DDA-54C0A0E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74CD-D59A-4A98-B356-5C39EDE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26BB-D9E1-47BE-9807-7A98C397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C8F0-A5E3-4630-B219-A7435724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DE6F-DABC-4416-94EF-5982A339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564-DF8E-4963-8E23-5A7E7D6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E41F-94B5-49E2-934B-245D143D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CF5F-DA2B-41F6-92F3-009F2900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690E-064F-4C00-8F9F-77861D1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C4F2-0999-48BB-AD40-BA00D7C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04FD-1687-4F32-8556-C236A889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BE44-2D3C-4E37-9C39-F286B9E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0575-03EE-4D4D-9E83-3920900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C4EFD-E683-4C6A-9FD0-5C66134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788B-AF07-45A1-9C20-DEA0A74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823F-D39C-4537-9F43-CA4B0753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723-9B04-41F6-8432-5E7E6C0D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1225-2994-45AA-A173-4170B9EE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AC5C0-9F13-488E-A5EC-6BCA5147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1C8A5-DEFB-40A8-9FD3-1F94713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3F9D-F3CE-4A69-9303-28CAB75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708A-7052-4B10-B774-1A844A1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B6FB-8583-4083-AAAB-DEDB33A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27E6-102E-4BE8-BC95-FC4D352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8CA7-5356-43A9-89F9-6C337EC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374A-6275-4890-A1E0-50CD3ECC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EFE7-7DAB-4680-86A1-57FD812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D5F-6890-4C41-954A-26A6FAD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0912-CEF9-4C6F-8F7F-B56F061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12AD-CD8E-4392-A2EC-FAF6CC30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E4E7-D15B-4D47-959C-D0813A25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A9374-16D1-49C2-B7C6-D9C04CB5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CEC0-B2E9-441F-B3B7-F8092B91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F989A-3F11-4368-8242-E3939251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8BBE-6CBC-4911-A62D-3E90831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E991-FB4B-4471-AE36-6673F833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E879-0A98-49E5-8A5C-1BB04019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388C-A179-4E01-BBB5-0DFC965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935-E8CF-48FB-A8B9-4DC378F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434A-7596-4F17-9DE1-783F71D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869EA-4132-44A0-910F-8AE9E38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C761-C673-46C6-A429-3CAEC648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15D7-9032-4A84-B3AE-809B7175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A599-B596-4B6F-9E26-5BD00C47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DD57-94ED-4824-AD42-5A6C6DF8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1ACD-A8B4-47A2-BCDD-FE3ECB4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F0C9-F1A4-4BA2-A34E-90A36477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FEDB9-676B-4979-B854-F9D8029A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0E8D-899B-45EA-813A-A67B257F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2D3-18D7-4FEC-B87D-5238A340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32C9-45BE-4D6A-BC68-AFDF4E2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C157-EAEA-477E-9FDD-205889A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17D9-A291-435E-85C9-8646AF9A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E8B18-3664-4693-AE15-4A97693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008DA-33B4-4BD4-82AD-3BCA650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D455-44B5-45DC-A85B-646DFECA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146D-9077-4FEC-B739-9B736CDA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10004-B4EB-403A-BF9F-ABE28BAE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18CB8-217C-42A7-8A90-BF2B72B7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F5E8-3AF2-43BA-942D-5AA5F8AC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DF6-0327-41F2-A187-6AB73DDAB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C38-B195-48C1-AA2C-7C83765112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7A54-4224-4BBF-A1EF-39EFE3849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D137-FB18-450A-B18D-D17ED751E4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C82A-9D62-432B-B900-41A3117507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324-AE25-4472-8BDE-BDB306C99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1A2-AAAB-40B0-9F97-6F62F701E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F4D-72BF-4A9E-83CA-BD741EF52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39F-23B2-4173-9AFF-64BE060B5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6C1-703E-4741-9162-F38B302EE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47D-A0EA-4B3B-865F-7AC1ACE9C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C6D9-0B20-4F2C-A2E2-4D8B72EE3E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CEDF-FB99-4DE0-83E1-84A7B7A78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853-EEAE-4DC9-B374-B5841C470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491-E6CA-4F4B-AD75-78D8E6055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C07C-2F5D-4F6F-B093-36953B54C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7F7-BF20-43D0-8261-138CD3841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6B4-81C7-49FB-9ED9-FA273EAA9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B48-8F1B-47F2-A485-BAE8DBDF5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D22-FF7C-44E4-A21C-6232BA82B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C04-7D8B-4148-B2AF-E69566330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3778-877C-4F06-9BD6-91CF1ABF0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7908-4DF5-49D8-8824-A366F9D7C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2126-7B42-4611-832D-0C9E43075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578-8694-464B-AE13-869E66C6C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D89-09A4-4D5F-AC58-7B3D92878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67B-4BB8-4C34-90B0-69D9238D1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BAC-4532-407E-A67A-304424B98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4F83-C542-40FA-8A37-BA1C94509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648-91C8-43AF-97AF-06AF3E870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D17-DDF0-4C07-8198-4C89B1741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888-9EB9-43B9-BECF-0FE1A7F89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AE7-F743-4F56-9BEF-9565AAE69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1AA-0121-433C-9A8E-1D62BE0BC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404-21E2-45C7-AEE5-BFDDA53CA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715-4AE6-4042-93E8-0D59C1F95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132-40DE-403D-B3D4-F1DC18BEE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D492-795A-4992-BACB-B411518668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B1CC-3A32-44DF-823F-B6483B9C95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C2E-AE2D-4AFD-8CA5-67CF58A542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A32E-7A47-41D1-BA70-240F8D745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D2E-C930-4B5A-B77F-1098462AF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43F-4E56-4A69-98EC-471BE3F38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448B-5B43-4074-AAAF-989DECB5F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5720-1595-44D5-AF02-AC4960AA01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A4BB-A1F7-4629-BE03-A87EDA8F1B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5D5C-2DBE-4B13-B08C-F7A12D7356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015-810A-41DD-A914-84314E0A0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EFED-DA8E-416A-8D2A-1E511D2EB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A53-F089-4CDD-930C-685601D6E6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486080" y="3138480"/>
            <a:ext cx="61722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6737" descr=""/>
          <p:cNvPicPr/>
          <p:nvPr/>
        </p:nvPicPr>
        <p:blipFill>
          <a:blip r:embed="rId1"/>
          <a:stretch/>
        </p:blipFill>
        <p:spPr>
          <a:xfrm>
            <a:off x="566640" y="1623960"/>
            <a:ext cx="8010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15713" descr=""/>
          <p:cNvPicPr/>
          <p:nvPr/>
        </p:nvPicPr>
        <p:blipFill>
          <a:blip r:embed="rId1"/>
          <a:stretch/>
        </p:blipFill>
        <p:spPr>
          <a:xfrm>
            <a:off x="871560" y="1924200"/>
            <a:ext cx="7400880" cy="30096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15714"/>
          <p:cNvSpPr/>
          <p:nvPr/>
        </p:nvSpPr>
        <p:spPr>
          <a:xfrm>
            <a:off x="5784840" y="1938240"/>
            <a:ext cx="11080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5715"/>
          <p:cNvSpPr/>
          <p:nvPr/>
        </p:nvSpPr>
        <p:spPr>
          <a:xfrm>
            <a:off x="5796000" y="2997360"/>
            <a:ext cx="15937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5716"/>
          <p:cNvSpPr/>
          <p:nvPr/>
        </p:nvSpPr>
        <p:spPr>
          <a:xfrm>
            <a:off x="5975280" y="3500280"/>
            <a:ext cx="8701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5717"/>
          <p:cNvSpPr/>
          <p:nvPr/>
        </p:nvSpPr>
        <p:spPr>
          <a:xfrm>
            <a:off x="6804000" y="4508640"/>
            <a:ext cx="8701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1468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3665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10600" cy="51148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13666"/>
          <p:cNvSpPr/>
          <p:nvPr/>
        </p:nvSpPr>
        <p:spPr>
          <a:xfrm>
            <a:off x="6127920" y="4138560"/>
            <a:ext cx="946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3667"/>
          <p:cNvSpPr/>
          <p:nvPr/>
        </p:nvSpPr>
        <p:spPr>
          <a:xfrm>
            <a:off x="2916360" y="4653000"/>
            <a:ext cx="517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3668"/>
          <p:cNvSpPr/>
          <p:nvPr/>
        </p:nvSpPr>
        <p:spPr>
          <a:xfrm>
            <a:off x="5292720" y="4672080"/>
            <a:ext cx="517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3669"/>
          <p:cNvSpPr/>
          <p:nvPr/>
        </p:nvSpPr>
        <p:spPr>
          <a:xfrm>
            <a:off x="2455920" y="5157720"/>
            <a:ext cx="1336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3670"/>
          <p:cNvSpPr/>
          <p:nvPr/>
        </p:nvSpPr>
        <p:spPr>
          <a:xfrm>
            <a:off x="5076720" y="5157720"/>
            <a:ext cx="19656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3671"/>
          <p:cNvSpPr/>
          <p:nvPr/>
        </p:nvSpPr>
        <p:spPr>
          <a:xfrm>
            <a:off x="2484360" y="5680080"/>
            <a:ext cx="19652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12641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39040" cy="356256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12642"/>
          <p:cNvSpPr/>
          <p:nvPr/>
        </p:nvSpPr>
        <p:spPr>
          <a:xfrm>
            <a:off x="6118200" y="166212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2643"/>
          <p:cNvSpPr/>
          <p:nvPr/>
        </p:nvSpPr>
        <p:spPr>
          <a:xfrm>
            <a:off x="3535200" y="2171880"/>
            <a:ext cx="9464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2644"/>
          <p:cNvSpPr/>
          <p:nvPr/>
        </p:nvSpPr>
        <p:spPr>
          <a:xfrm>
            <a:off x="5283360" y="216216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2645"/>
          <p:cNvSpPr/>
          <p:nvPr/>
        </p:nvSpPr>
        <p:spPr>
          <a:xfrm>
            <a:off x="4121280" y="265572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2646"/>
          <p:cNvSpPr/>
          <p:nvPr/>
        </p:nvSpPr>
        <p:spPr>
          <a:xfrm>
            <a:off x="7308720" y="3170160"/>
            <a:ext cx="9464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12647"/>
          <p:cNvSpPr/>
          <p:nvPr/>
        </p:nvSpPr>
        <p:spPr>
          <a:xfrm>
            <a:off x="2212920" y="3728880"/>
            <a:ext cx="4320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2648"/>
          <p:cNvSpPr/>
          <p:nvPr/>
        </p:nvSpPr>
        <p:spPr>
          <a:xfrm>
            <a:off x="7236000" y="3706920"/>
            <a:ext cx="9460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12649"/>
          <p:cNvSpPr/>
          <p:nvPr/>
        </p:nvSpPr>
        <p:spPr>
          <a:xfrm>
            <a:off x="2139840" y="4265640"/>
            <a:ext cx="432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2650"/>
          <p:cNvSpPr/>
          <p:nvPr/>
        </p:nvSpPr>
        <p:spPr>
          <a:xfrm>
            <a:off x="3635280" y="422100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2651"/>
          <p:cNvSpPr/>
          <p:nvPr/>
        </p:nvSpPr>
        <p:spPr>
          <a:xfrm>
            <a:off x="7020000" y="4221000"/>
            <a:ext cx="946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11617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933720" cy="981360"/>
          </a:xfrm>
          <a:prstGeom prst="rect">
            <a:avLst/>
          </a:prstGeom>
          <a:ln w="0">
            <a:noFill/>
          </a:ln>
        </p:spPr>
      </p:pic>
      <p:pic>
        <p:nvPicPr>
          <p:cNvPr id="1516" name="图片 111618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6067440" cy="399960"/>
          </a:xfrm>
          <a:prstGeom prst="rect">
            <a:avLst/>
          </a:prstGeom>
          <a:ln w="0">
            <a:noFill/>
          </a:ln>
        </p:spPr>
      </p:pic>
      <p:pic>
        <p:nvPicPr>
          <p:cNvPr id="1517" name="图片 111619" descr=""/>
          <p:cNvPicPr/>
          <p:nvPr/>
        </p:nvPicPr>
        <p:blipFill>
          <a:blip r:embed="rId3"/>
          <a:stretch/>
        </p:blipFill>
        <p:spPr>
          <a:xfrm>
            <a:off x="477720" y="2311560"/>
            <a:ext cx="5077080" cy="390240"/>
          </a:xfrm>
          <a:prstGeom prst="rect">
            <a:avLst/>
          </a:prstGeom>
          <a:ln w="0">
            <a:noFill/>
          </a:ln>
        </p:spPr>
      </p:pic>
      <p:pic>
        <p:nvPicPr>
          <p:cNvPr id="1518" name="图片 111620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5553360" cy="743040"/>
          </a:xfrm>
          <a:prstGeom prst="rect">
            <a:avLst/>
          </a:prstGeom>
          <a:ln w="0">
            <a:noFill/>
          </a:ln>
        </p:spPr>
      </p:pic>
      <p:pic>
        <p:nvPicPr>
          <p:cNvPr id="1519" name="图片 111621" descr=""/>
          <p:cNvPicPr/>
          <p:nvPr/>
        </p:nvPicPr>
        <p:blipFill>
          <a:blip r:embed="rId5"/>
          <a:stretch/>
        </p:blipFill>
        <p:spPr>
          <a:xfrm>
            <a:off x="468360" y="3789360"/>
            <a:ext cx="5705280" cy="695160"/>
          </a:xfrm>
          <a:prstGeom prst="rect">
            <a:avLst/>
          </a:prstGeom>
          <a:ln w="0">
            <a:noFill/>
          </a:ln>
        </p:spPr>
      </p:pic>
      <p:pic>
        <p:nvPicPr>
          <p:cNvPr id="1520" name="图片 111622" descr=""/>
          <p:cNvPicPr/>
          <p:nvPr/>
        </p:nvPicPr>
        <p:blipFill>
          <a:blip r:embed="rId6"/>
          <a:stretch/>
        </p:blipFill>
        <p:spPr>
          <a:xfrm>
            <a:off x="468360" y="4653000"/>
            <a:ext cx="3066840" cy="68580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11624" descr=""/>
          <p:cNvPicPr/>
          <p:nvPr/>
        </p:nvPicPr>
        <p:blipFill>
          <a:blip r:embed="rId7"/>
          <a:stretch/>
        </p:blipFill>
        <p:spPr>
          <a:xfrm>
            <a:off x="1563840" y="2924280"/>
            <a:ext cx="1419120" cy="62856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11628" descr=""/>
          <p:cNvPicPr/>
          <p:nvPr/>
        </p:nvPicPr>
        <p:blipFill>
          <a:blip r:embed="rId8"/>
          <a:stretch/>
        </p:blipFill>
        <p:spPr>
          <a:xfrm>
            <a:off x="4309920" y="2919240"/>
            <a:ext cx="1648080" cy="628920"/>
          </a:xfrm>
          <a:prstGeom prst="rect">
            <a:avLst/>
          </a:prstGeom>
          <a:ln w="0">
            <a:noFill/>
          </a:ln>
        </p:spPr>
      </p:pic>
      <p:pic>
        <p:nvPicPr>
          <p:cNvPr id="1523" name="图片 111629" descr=""/>
          <p:cNvPicPr/>
          <p:nvPr/>
        </p:nvPicPr>
        <p:blipFill>
          <a:blip r:embed="rId9"/>
          <a:stretch/>
        </p:blipFill>
        <p:spPr>
          <a:xfrm>
            <a:off x="1712880" y="3827520"/>
            <a:ext cx="1647720" cy="628560"/>
          </a:xfrm>
          <a:prstGeom prst="rect">
            <a:avLst/>
          </a:prstGeom>
          <a:ln w="0">
            <a:noFill/>
          </a:ln>
        </p:spPr>
      </p:pic>
      <p:pic>
        <p:nvPicPr>
          <p:cNvPr id="1524" name="图片 111630" descr=""/>
          <p:cNvPicPr/>
          <p:nvPr/>
        </p:nvPicPr>
        <p:blipFill>
          <a:blip r:embed="rId10"/>
          <a:stretch/>
        </p:blipFill>
        <p:spPr>
          <a:xfrm>
            <a:off x="4659480" y="3832200"/>
            <a:ext cx="1419120" cy="62856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111632" descr=""/>
          <p:cNvPicPr/>
          <p:nvPr/>
        </p:nvPicPr>
        <p:blipFill>
          <a:blip r:embed="rId11"/>
          <a:stretch/>
        </p:blipFill>
        <p:spPr>
          <a:xfrm>
            <a:off x="1692360" y="4686480"/>
            <a:ext cx="16477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790720" cy="6480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12493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324160" cy="25704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124932" descr=""/>
          <p:cNvPicPr/>
          <p:nvPr/>
        </p:nvPicPr>
        <p:blipFill>
          <a:blip r:embed="rId3"/>
          <a:stretch/>
        </p:blipFill>
        <p:spPr>
          <a:xfrm>
            <a:off x="674640" y="1681200"/>
            <a:ext cx="8048520" cy="273348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124933" descr=""/>
          <p:cNvPicPr/>
          <p:nvPr/>
        </p:nvPicPr>
        <p:blipFill>
          <a:blip r:embed="rId4"/>
          <a:stretch/>
        </p:blipFill>
        <p:spPr>
          <a:xfrm>
            <a:off x="530280" y="4505400"/>
            <a:ext cx="2095560" cy="247680"/>
          </a:xfrm>
          <a:prstGeom prst="rect">
            <a:avLst/>
          </a:prstGeom>
          <a:ln w="0">
            <a:noFill/>
          </a:ln>
        </p:spPr>
      </p:pic>
      <p:pic>
        <p:nvPicPr>
          <p:cNvPr id="1437" name="图片 124934" descr=""/>
          <p:cNvPicPr/>
          <p:nvPr/>
        </p:nvPicPr>
        <p:blipFill>
          <a:blip r:embed="rId5"/>
          <a:stretch/>
        </p:blipFill>
        <p:spPr>
          <a:xfrm>
            <a:off x="817560" y="4807080"/>
            <a:ext cx="8067600" cy="1923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4936"/>
          <p:cNvSpPr/>
          <p:nvPr/>
        </p:nvSpPr>
        <p:spPr>
          <a:xfrm>
            <a:off x="6288120" y="2266920"/>
            <a:ext cx="12193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7"/>
          <p:cNvSpPr/>
          <p:nvPr/>
        </p:nvSpPr>
        <p:spPr>
          <a:xfrm>
            <a:off x="2214720" y="268920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8"/>
          <p:cNvSpPr/>
          <p:nvPr/>
        </p:nvSpPr>
        <p:spPr>
          <a:xfrm>
            <a:off x="2700360" y="314172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9"/>
          <p:cNvSpPr/>
          <p:nvPr/>
        </p:nvSpPr>
        <p:spPr>
          <a:xfrm>
            <a:off x="4983120" y="313380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40"/>
          <p:cNvSpPr/>
          <p:nvPr/>
        </p:nvSpPr>
        <p:spPr>
          <a:xfrm>
            <a:off x="6659640" y="314172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41"/>
          <p:cNvSpPr/>
          <p:nvPr/>
        </p:nvSpPr>
        <p:spPr>
          <a:xfrm>
            <a:off x="3419640" y="3592440"/>
            <a:ext cx="599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2"/>
          <p:cNvSpPr/>
          <p:nvPr/>
        </p:nvSpPr>
        <p:spPr>
          <a:xfrm>
            <a:off x="6400800" y="4762440"/>
            <a:ext cx="1081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3"/>
          <p:cNvSpPr/>
          <p:nvPr/>
        </p:nvSpPr>
        <p:spPr>
          <a:xfrm>
            <a:off x="1447920" y="5191200"/>
            <a:ext cx="16714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4"/>
          <p:cNvSpPr/>
          <p:nvPr/>
        </p:nvSpPr>
        <p:spPr>
          <a:xfrm>
            <a:off x="1403280" y="558972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5"/>
          <p:cNvSpPr/>
          <p:nvPr/>
        </p:nvSpPr>
        <p:spPr>
          <a:xfrm>
            <a:off x="3602160" y="5599080"/>
            <a:ext cx="1214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6"/>
          <p:cNvSpPr/>
          <p:nvPr/>
        </p:nvSpPr>
        <p:spPr>
          <a:xfrm>
            <a:off x="4033800" y="602136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7"/>
          <p:cNvSpPr/>
          <p:nvPr/>
        </p:nvSpPr>
        <p:spPr>
          <a:xfrm>
            <a:off x="5292720" y="6021360"/>
            <a:ext cx="6001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8"/>
          <p:cNvSpPr/>
          <p:nvPr/>
        </p:nvSpPr>
        <p:spPr>
          <a:xfrm>
            <a:off x="7956720" y="6021360"/>
            <a:ext cx="599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3906" descr=""/>
          <p:cNvPicPr/>
          <p:nvPr/>
        </p:nvPicPr>
        <p:blipFill>
          <a:blip r:embed="rId1"/>
          <a:stretch/>
        </p:blipFill>
        <p:spPr>
          <a:xfrm>
            <a:off x="361800" y="1424160"/>
            <a:ext cx="8420400" cy="40096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3907"/>
          <p:cNvSpPr/>
          <p:nvPr/>
        </p:nvSpPr>
        <p:spPr>
          <a:xfrm>
            <a:off x="8211960" y="2819520"/>
            <a:ext cx="3146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08"/>
          <p:cNvSpPr/>
          <p:nvPr/>
        </p:nvSpPr>
        <p:spPr>
          <a:xfrm>
            <a:off x="8215200" y="4086360"/>
            <a:ext cx="314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2881" descr=""/>
          <p:cNvPicPr/>
          <p:nvPr/>
        </p:nvPicPr>
        <p:blipFill>
          <a:blip r:embed="rId1"/>
          <a:stretch/>
        </p:blipFill>
        <p:spPr>
          <a:xfrm>
            <a:off x="371520" y="800280"/>
            <a:ext cx="8400960" cy="52578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2882"/>
          <p:cNvSpPr/>
          <p:nvPr/>
        </p:nvSpPr>
        <p:spPr>
          <a:xfrm>
            <a:off x="3344760" y="2324160"/>
            <a:ext cx="12384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3"/>
          <p:cNvSpPr/>
          <p:nvPr/>
        </p:nvSpPr>
        <p:spPr>
          <a:xfrm>
            <a:off x="5229360" y="230508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84"/>
          <p:cNvSpPr/>
          <p:nvPr/>
        </p:nvSpPr>
        <p:spPr>
          <a:xfrm>
            <a:off x="3727440" y="272736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85"/>
          <p:cNvSpPr/>
          <p:nvPr/>
        </p:nvSpPr>
        <p:spPr>
          <a:xfrm>
            <a:off x="5734080" y="2733840"/>
            <a:ext cx="1371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86"/>
          <p:cNvSpPr/>
          <p:nvPr/>
        </p:nvSpPr>
        <p:spPr>
          <a:xfrm>
            <a:off x="6764400" y="3162240"/>
            <a:ext cx="3618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2887"/>
          <p:cNvSpPr/>
          <p:nvPr/>
        </p:nvSpPr>
        <p:spPr>
          <a:xfrm>
            <a:off x="8172360" y="4076640"/>
            <a:ext cx="3621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21857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58240" cy="55148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21858"/>
          <p:cNvSpPr/>
          <p:nvPr/>
        </p:nvSpPr>
        <p:spPr>
          <a:xfrm>
            <a:off x="5154480" y="3357720"/>
            <a:ext cx="11462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1859"/>
          <p:cNvSpPr/>
          <p:nvPr/>
        </p:nvSpPr>
        <p:spPr>
          <a:xfrm>
            <a:off x="7880400" y="3376440"/>
            <a:ext cx="6033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1860"/>
          <p:cNvSpPr/>
          <p:nvPr/>
        </p:nvSpPr>
        <p:spPr>
          <a:xfrm>
            <a:off x="1403280" y="387036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61"/>
          <p:cNvSpPr/>
          <p:nvPr/>
        </p:nvSpPr>
        <p:spPr>
          <a:xfrm>
            <a:off x="5076720" y="4384800"/>
            <a:ext cx="8654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1862"/>
          <p:cNvSpPr/>
          <p:nvPr/>
        </p:nvSpPr>
        <p:spPr>
          <a:xfrm>
            <a:off x="7596360" y="440388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1863"/>
          <p:cNvSpPr/>
          <p:nvPr/>
        </p:nvSpPr>
        <p:spPr>
          <a:xfrm>
            <a:off x="1343160" y="4916520"/>
            <a:ext cx="603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64"/>
          <p:cNvSpPr/>
          <p:nvPr/>
        </p:nvSpPr>
        <p:spPr>
          <a:xfrm>
            <a:off x="2790720" y="4897440"/>
            <a:ext cx="108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1865"/>
          <p:cNvSpPr/>
          <p:nvPr/>
        </p:nvSpPr>
        <p:spPr>
          <a:xfrm>
            <a:off x="5219640" y="4888080"/>
            <a:ext cx="865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21866"/>
          <p:cNvSpPr/>
          <p:nvPr/>
        </p:nvSpPr>
        <p:spPr>
          <a:xfrm>
            <a:off x="3492360" y="5425920"/>
            <a:ext cx="14083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21867"/>
          <p:cNvSpPr/>
          <p:nvPr/>
        </p:nvSpPr>
        <p:spPr>
          <a:xfrm>
            <a:off x="6659640" y="5445000"/>
            <a:ext cx="14079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1868"/>
          <p:cNvSpPr/>
          <p:nvPr/>
        </p:nvSpPr>
        <p:spPr>
          <a:xfrm>
            <a:off x="4067280" y="5877000"/>
            <a:ext cx="14079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20833" descr=""/>
          <p:cNvPicPr/>
          <p:nvPr/>
        </p:nvPicPr>
        <p:blipFill>
          <a:blip r:embed="rId1"/>
          <a:stretch/>
        </p:blipFill>
        <p:spPr>
          <a:xfrm>
            <a:off x="771480" y="1295280"/>
            <a:ext cx="7601040" cy="42674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20834"/>
          <p:cNvSpPr/>
          <p:nvPr/>
        </p:nvSpPr>
        <p:spPr>
          <a:xfrm>
            <a:off x="1612800" y="1357200"/>
            <a:ext cx="17938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20835"/>
          <p:cNvSpPr/>
          <p:nvPr/>
        </p:nvSpPr>
        <p:spPr>
          <a:xfrm>
            <a:off x="2832120" y="1852560"/>
            <a:ext cx="1212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20836"/>
          <p:cNvSpPr/>
          <p:nvPr/>
        </p:nvSpPr>
        <p:spPr>
          <a:xfrm>
            <a:off x="6443640" y="2881440"/>
            <a:ext cx="19177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20837"/>
          <p:cNvSpPr/>
          <p:nvPr/>
        </p:nvSpPr>
        <p:spPr>
          <a:xfrm>
            <a:off x="1317600" y="3395520"/>
            <a:ext cx="746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20838"/>
          <p:cNvSpPr/>
          <p:nvPr/>
        </p:nvSpPr>
        <p:spPr>
          <a:xfrm>
            <a:off x="5940360" y="3386160"/>
            <a:ext cx="154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20839"/>
          <p:cNvSpPr/>
          <p:nvPr/>
        </p:nvSpPr>
        <p:spPr>
          <a:xfrm>
            <a:off x="4427640" y="3933720"/>
            <a:ext cx="12794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20840"/>
          <p:cNvSpPr/>
          <p:nvPr/>
        </p:nvSpPr>
        <p:spPr>
          <a:xfrm>
            <a:off x="3708360" y="4419720"/>
            <a:ext cx="34038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20841"/>
          <p:cNvSpPr/>
          <p:nvPr/>
        </p:nvSpPr>
        <p:spPr>
          <a:xfrm>
            <a:off x="2700360" y="5103720"/>
            <a:ext cx="154620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9809" descr=""/>
          <p:cNvPicPr/>
          <p:nvPr/>
        </p:nvPicPr>
        <p:blipFill>
          <a:blip r:embed="rId1"/>
          <a:stretch/>
        </p:blipFill>
        <p:spPr>
          <a:xfrm>
            <a:off x="557280" y="1023840"/>
            <a:ext cx="8029440" cy="481032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9810"/>
          <p:cNvSpPr/>
          <p:nvPr/>
        </p:nvSpPr>
        <p:spPr>
          <a:xfrm>
            <a:off x="7794720" y="219564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9811"/>
          <p:cNvSpPr/>
          <p:nvPr/>
        </p:nvSpPr>
        <p:spPr>
          <a:xfrm>
            <a:off x="7812000" y="3716280"/>
            <a:ext cx="432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8786" descr=""/>
          <p:cNvPicPr/>
          <p:nvPr/>
        </p:nvPicPr>
        <p:blipFill>
          <a:blip r:embed="rId1"/>
          <a:stretch/>
        </p:blipFill>
        <p:spPr>
          <a:xfrm>
            <a:off x="566640" y="1924200"/>
            <a:ext cx="8010720" cy="300960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8787"/>
          <p:cNvSpPr/>
          <p:nvPr/>
        </p:nvSpPr>
        <p:spPr>
          <a:xfrm>
            <a:off x="7861320" y="194796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7761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81920" cy="311472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7762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5067360" cy="89532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7763"/>
          <p:cNvSpPr/>
          <p:nvPr/>
        </p:nvSpPr>
        <p:spPr>
          <a:xfrm>
            <a:off x="7756560" y="2328840"/>
            <a:ext cx="4316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5:22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